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437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6C2-8A70-4FA0-8F53-14457AAC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4E1-D2AC-421E-99E4-3F03CB3E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0B0-6890-47D9-B98F-882984C9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049-0ED4-470B-9321-095F71B7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0357-B2D8-42F7-9459-2E3706F9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9D8F-99D2-4646-AC47-102370A6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0A71-A8CC-4982-B4F3-7AABF385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9C57-7692-41DD-A7DF-D7FBF931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E4B8-FF5F-45DB-89F0-9544C35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0591-C15C-4FE9-8B5F-C6242FE2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04FC-4D89-476F-A840-E604B9D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0EC-7242-4B96-9A88-9E8E1174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FB75-0E50-4706-A8FE-1FF5006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6639-44F3-46A1-AEC6-ED2C91C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A153-B422-41E2-965F-DF3B67F5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E08-3E88-4891-801B-407B52C1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FDED-E89C-4673-8BE6-8099C40E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977-6449-4FC1-8E6D-E919AC8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E68-0255-4F36-8763-241C68B3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3B4-D819-4EC0-BA93-3DCC413C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878-F958-4246-9E20-A56F2CA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70C-8DE7-467A-B3E3-752B64E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34B-0F73-4B05-A67E-AFD87A2F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559-C0E5-4798-AD4C-95801CA0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64805"/>
          <a:stretch/>
        </p:blipFill>
        <p:spPr>
          <a:xfrm>
            <a:off x="0" y="6021360"/>
            <a:ext cx="130032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1300320" cy="2376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268280"/>
            <a:ext cx="1300320" cy="2376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844560"/>
            <a:ext cx="1619280" cy="42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-1919520" y="2819160"/>
            <a:ext cx="6858000" cy="1219320"/>
          </a:xfrm>
          <a:custGeom>
            <a:avLst/>
            <a:gdLst>
              <a:gd name="textAreaLeft" fmla="*/ 0 w 6858000"/>
              <a:gd name="textAreaRight" fmla="*/ 6858360 w 68580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64000" y="147600"/>
            <a:ext cx="3024000" cy="53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617480" y="6248520"/>
            <a:ext cx="97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236520" y="3284640"/>
          <a:ext cx="655560" cy="345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520" y="3284640"/>
                    <a:ext cx="6555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"/>
          <p:cNvSpPr/>
          <p:nvPr/>
        </p:nvSpPr>
        <p:spPr>
          <a:xfrm rot="16200000">
            <a:off x="-612000" y="1980000"/>
            <a:ext cx="2592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1440" y="147600"/>
            <a:ext cx="4464360" cy="53676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6156360" y="155520"/>
            <a:ext cx="1152360" cy="53676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2"/>
          <a:stretch/>
        </p:blipFill>
        <p:spPr>
          <a:xfrm>
            <a:off x="-4680" y="0"/>
            <a:ext cx="4432320" cy="15084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3"/>
          <a:stretch/>
        </p:blipFill>
        <p:spPr>
          <a:xfrm>
            <a:off x="4356000" y="0"/>
            <a:ext cx="4788000" cy="150840"/>
          </a:xfrm>
          <a:prstGeom prst="rect">
            <a:avLst/>
          </a:prstGeom>
          <a:ln w="0">
            <a:noFill/>
          </a:ln>
        </p:spPr>
      </p:pic>
      <p:sp>
        <p:nvSpPr>
          <p:cNvPr id="18" name=""/>
          <p:cNvSpPr/>
          <p:nvPr/>
        </p:nvSpPr>
        <p:spPr>
          <a:xfrm>
            <a:off x="0" y="687240"/>
            <a:ext cx="8028000" cy="16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14"/>
          <a:stretch/>
        </p:blipFill>
        <p:spPr>
          <a:xfrm>
            <a:off x="7931160" y="512640"/>
            <a:ext cx="1201680" cy="33336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5"/>
          <a:stretch/>
        </p:blipFill>
        <p:spPr>
          <a:xfrm>
            <a:off x="7667640" y="115920"/>
            <a:ext cx="110340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50840"/>
            <a:ext cx="7610400" cy="3895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41194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10400" y="339840"/>
            <a:ext cx="162000" cy="198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d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753320" y="150840"/>
            <a:ext cx="1389240" cy="38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601040" y="142920"/>
            <a:ext cx="812880" cy="20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50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391520" y="685800"/>
            <a:ext cx="1484280" cy="628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3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3240" y="41194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g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16160" y="465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 Drive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65E2-0FB1-4CDF-B01F-219D672D12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96000" y="5734080"/>
            <a:ext cx="2087640" cy="9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5734080"/>
            <a:ext cx="2087640" cy="9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Model Driven Architecture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68256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80000" y="1413000"/>
            <a:ext cx="2393640" cy="1006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6800" bIns="4788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L2 (MDZ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32360" y="2208240"/>
            <a:ext cx="1189080" cy="21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798720" y="2112840"/>
            <a:ext cx="370080" cy="27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22560" y="3573360"/>
            <a:ext cx="2089080" cy="920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tform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el (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lien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MF UML2 (v1.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3573360"/>
            <a:ext cx="2089080" cy="933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tform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el (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MF UML2 (v1.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21200" y="5062680"/>
            <a:ext cx="2158920" cy="86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930280" y="5941800"/>
            <a:ext cx="469800" cy="574920"/>
            <a:chOff x="5930280" y="5941800"/>
            <a:chExt cx="469800" cy="574920"/>
          </a:xfrm>
        </p:grpSpPr>
        <p:sp>
          <p:nvSpPr>
            <p:cNvPr id="117" name=""/>
            <p:cNvSpPr/>
            <p:nvPr/>
          </p:nvSpPr>
          <p:spPr>
            <a:xfrm flipH="1" rot="10800000">
              <a:off x="5929920" y="594180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0800000">
              <a:off x="6031440" y="600552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649200" y="5941800"/>
            <a:ext cx="469800" cy="574920"/>
            <a:chOff x="6649200" y="5941800"/>
            <a:chExt cx="469800" cy="574920"/>
          </a:xfrm>
        </p:grpSpPr>
        <p:sp>
          <p:nvSpPr>
            <p:cNvPr id="120" name=""/>
            <p:cNvSpPr/>
            <p:nvPr/>
          </p:nvSpPr>
          <p:spPr>
            <a:xfrm flipH="1" rot="10800000">
              <a:off x="6648840" y="594180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0800000">
              <a:off x="6750360" y="600552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298640" y="5941800"/>
            <a:ext cx="469800" cy="574920"/>
            <a:chOff x="7298640" y="5941800"/>
            <a:chExt cx="469800" cy="574920"/>
          </a:xfrm>
        </p:grpSpPr>
        <p:sp>
          <p:nvSpPr>
            <p:cNvPr id="123" name=""/>
            <p:cNvSpPr/>
            <p:nvPr/>
          </p:nvSpPr>
          <p:spPr>
            <a:xfrm flipH="1" rot="10800000">
              <a:off x="7298280" y="594180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0800000">
              <a:off x="7399800" y="600552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56840" y="5949720"/>
            <a:ext cx="469800" cy="574920"/>
            <a:chOff x="2256840" y="5949720"/>
            <a:chExt cx="469800" cy="574920"/>
          </a:xfrm>
        </p:grpSpPr>
        <p:sp>
          <p:nvSpPr>
            <p:cNvPr id="126" name=""/>
            <p:cNvSpPr/>
            <p:nvPr/>
          </p:nvSpPr>
          <p:spPr>
            <a:xfrm flipH="1" rot="10800000">
              <a:off x="2256480" y="594972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10800000">
              <a:off x="2358000" y="601344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75760" y="5949720"/>
            <a:ext cx="469800" cy="574920"/>
            <a:chOff x="2975760" y="5949720"/>
            <a:chExt cx="469800" cy="574920"/>
          </a:xfrm>
        </p:grpSpPr>
        <p:sp>
          <p:nvSpPr>
            <p:cNvPr id="129" name=""/>
            <p:cNvSpPr/>
            <p:nvPr/>
          </p:nvSpPr>
          <p:spPr>
            <a:xfrm flipH="1" rot="10800000">
              <a:off x="2975400" y="594972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0800000">
              <a:off x="3076920" y="601344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25200" y="5949720"/>
            <a:ext cx="469800" cy="574920"/>
            <a:chOff x="3625200" y="5949720"/>
            <a:chExt cx="469800" cy="574920"/>
          </a:xfrm>
        </p:grpSpPr>
        <p:sp>
          <p:nvSpPr>
            <p:cNvPr id="132" name=""/>
            <p:cNvSpPr/>
            <p:nvPr/>
          </p:nvSpPr>
          <p:spPr>
            <a:xfrm flipH="1" rot="10800000">
              <a:off x="3624840" y="594972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10800000">
              <a:off x="3726360" y="601344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133720" y="4149720"/>
            <a:ext cx="369720" cy="27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838840" y="4149720"/>
            <a:ext cx="369720" cy="279360"/>
          </a:xfrm>
          <a:prstGeom prst="rect">
            <a:avLst/>
          </a:prstGeom>
          <a:ln w="0">
            <a:noFill/>
          </a:ln>
        </p:spPr>
      </p:pic>
      <p:cxnSp>
        <p:nvCxnSpPr>
          <p:cNvPr id="136" name=""/>
          <p:cNvCxnSpPr>
            <a:stCxn id="110" idx="1"/>
            <a:endCxn id="113" idx="0"/>
          </p:cNvCxnSpPr>
          <p:nvPr/>
        </p:nvCxnSpPr>
        <p:spPr>
          <a:xfrm flipV="1" rot="10800000">
            <a:off x="3166200" y="1915200"/>
            <a:ext cx="613440" cy="1657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10" idx="3"/>
            <a:endCxn id="114" idx="0"/>
          </p:cNvCxnSpPr>
          <p:nvPr/>
        </p:nvCxnSpPr>
        <p:spPr>
          <a:xfrm>
            <a:off x="6173640" y="1915920"/>
            <a:ext cx="667440" cy="1657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3" idx="2"/>
            <a:endCxn id="107" idx="0"/>
          </p:cNvCxnSpPr>
          <p:nvPr/>
        </p:nvCxnSpPr>
        <p:spPr>
          <a:xfrm flipH="1" rot="16200000">
            <a:off x="2547000" y="5113080"/>
            <a:ext cx="1240560" cy="2520"/>
          </a:xfrm>
          <a:prstGeom prst="bentConnector3">
            <a:avLst>
              <a:gd name="adj1" fmla="val 4992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050920" y="2593800"/>
            <a:ext cx="5905800" cy="72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246480" y="2738520"/>
            <a:ext cx="461880" cy="461880"/>
          </a:xfrm>
          <a:prstGeom prst="rect">
            <a:avLst/>
          </a:prstGeom>
          <a:ln w="0">
            <a:noFill/>
          </a:ln>
        </p:spPr>
      </p:pic>
      <p:cxnSp>
        <p:nvCxnSpPr>
          <p:cNvPr id="141" name=""/>
          <p:cNvCxnSpPr>
            <a:stCxn id="114" idx="2"/>
            <a:endCxn id="106" idx="0"/>
          </p:cNvCxnSpPr>
          <p:nvPr/>
        </p:nvCxnSpPr>
        <p:spPr>
          <a:xfrm flipV="1" rot="10800000">
            <a:off x="6839640" y="4506480"/>
            <a:ext cx="1080" cy="12279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050920" y="4743360"/>
            <a:ext cx="59058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3635280" y="488808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6103800" y="4932360"/>
            <a:ext cx="172908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rcRect l="0" t="26297" r="0" b="35427"/>
          <a:stretch/>
        </p:blipFill>
        <p:spPr>
          <a:xfrm>
            <a:off x="6443640" y="2755800"/>
            <a:ext cx="1368360" cy="405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3995640" y="6060960"/>
            <a:ext cx="561960" cy="46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65720" y="6213600"/>
            <a:ext cx="647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7645320" y="6054840"/>
            <a:ext cx="561960" cy="466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15400" y="6216480"/>
            <a:ext cx="647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B0C-477B-41D7-80A5-B906C1BD06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7:08:47Z</dcterms:created>
  <dc:creator>DCOM2</dc:creator>
  <dc:description/>
  <dc:language>en-US</dc:language>
  <cp:lastModifiedBy>blavenier</cp:lastModifiedBy>
  <dcterms:modified xsi:type="dcterms:W3CDTF">2009-04-07T16:34:46Z</dcterms:modified>
  <cp:revision>133</cp:revision>
  <dc:subject/>
  <dc:title>Aucun titre de diapositive</dc:title>
</cp:coreProperties>
</file>