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437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67CF-B763-4FF1-8557-8CBFB55B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17480" y="413064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D16-3E72-4BE5-89B5-147A3E8B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2280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8C4A-0413-4686-9E7D-07F66B9E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30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43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17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930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43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6333-9CA5-4DB8-B2AE-D8E5CFD2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A7E2-C823-4507-B1F3-4C6899AC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C84F-31E6-4EFB-BF64-1B99CB29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B604-085D-4447-B1DF-90A8E2D1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625A-7C0F-4EEF-AA1E-0F20E230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832A-C990-4C6F-AB41-32FBF2FA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6760" y="8935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9594-2E27-4A6A-AC88-6043A5ED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F6B9-3D8F-49B6-BABC-20FB9121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847-8F5A-4A8F-8AFF-DAF0EFF0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2280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EFEC-1DA9-43E0-90B4-F8B73181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FE8C-93DF-45AE-9401-81BE163E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617480" y="413064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FBBD-4247-44A2-B587-5ADD853F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2280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FCA2-2755-472E-96E6-F913F2E6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30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43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617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30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243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023E-6B3E-483B-A02A-0FF94D3D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C86-8429-4E23-BE18-BC843F20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0FA-4E18-4F8F-A866-A63446D0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045-ED89-48C7-8F75-61397E93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436760" y="8935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E7B-E26E-41E2-8E0D-EA1DB752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984A-C2B7-4653-BC95-90858900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2280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08E-06FF-47B8-8FF7-91F318EF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CE9-7504-4B38-B1BD-290D730A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image" Target="../media/image9.pn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64805"/>
          <a:stretch/>
        </p:blipFill>
        <p:spPr>
          <a:xfrm>
            <a:off x="0" y="6021360"/>
            <a:ext cx="1300320" cy="836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3645000"/>
            <a:ext cx="1300320" cy="23763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1268280"/>
            <a:ext cx="1300320" cy="23767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844560"/>
            <a:ext cx="1619280" cy="42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-1919520" y="2819160"/>
            <a:ext cx="6858000" cy="1219320"/>
          </a:xfrm>
          <a:custGeom>
            <a:avLst/>
            <a:gdLst>
              <a:gd name="textAreaLeft" fmla="*/ 0 w 6858000"/>
              <a:gd name="textAreaRight" fmla="*/ 6858360 w 685800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64000" y="147600"/>
            <a:ext cx="3024000" cy="53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617480" y="6248520"/>
            <a:ext cx="97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236520" y="3284640"/>
          <a:ext cx="655560" cy="345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520" y="3284640"/>
                    <a:ext cx="65556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" name=""/>
          <p:cNvSpPr/>
          <p:nvPr/>
        </p:nvSpPr>
        <p:spPr>
          <a:xfrm rot="16200000">
            <a:off x="-612000" y="1980000"/>
            <a:ext cx="2592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I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" descr=""/>
          <p:cNvPicPr/>
          <p:nvPr/>
        </p:nvPicPr>
        <p:blipFill>
          <a:blip r:embed="rId10"/>
          <a:stretch/>
        </p:blipFill>
        <p:spPr>
          <a:xfrm>
            <a:off x="1440" y="147600"/>
            <a:ext cx="4464360" cy="53676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1"/>
          <a:stretch/>
        </p:blipFill>
        <p:spPr>
          <a:xfrm>
            <a:off x="6156360" y="155520"/>
            <a:ext cx="1152360" cy="53676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2"/>
          <a:stretch/>
        </p:blipFill>
        <p:spPr>
          <a:xfrm>
            <a:off x="-4680" y="0"/>
            <a:ext cx="4432320" cy="15084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3"/>
          <a:stretch/>
        </p:blipFill>
        <p:spPr>
          <a:xfrm>
            <a:off x="4356000" y="0"/>
            <a:ext cx="4788000" cy="150840"/>
          </a:xfrm>
          <a:prstGeom prst="rect">
            <a:avLst/>
          </a:prstGeom>
          <a:ln w="0">
            <a:noFill/>
          </a:ln>
        </p:spPr>
      </p:pic>
      <p:sp>
        <p:nvSpPr>
          <p:cNvPr id="18" name=""/>
          <p:cNvSpPr/>
          <p:nvPr/>
        </p:nvSpPr>
        <p:spPr>
          <a:xfrm>
            <a:off x="0" y="687240"/>
            <a:ext cx="8028000" cy="16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" name="" descr=""/>
          <p:cNvPicPr/>
          <p:nvPr/>
        </p:nvPicPr>
        <p:blipFill>
          <a:blip r:embed="rId14"/>
          <a:stretch/>
        </p:blipFill>
        <p:spPr>
          <a:xfrm>
            <a:off x="7931160" y="512640"/>
            <a:ext cx="1201680" cy="333360"/>
          </a:xfrm>
          <a:prstGeom prst="rect">
            <a:avLst/>
          </a:prstGeom>
          <a:ln w="0">
            <a:noFill/>
          </a:ln>
        </p:spPr>
      </p:pic>
      <p:pic>
        <p:nvPicPr>
          <p:cNvPr id="20" name="" descr=""/>
          <p:cNvPicPr/>
          <p:nvPr/>
        </p:nvPicPr>
        <p:blipFill>
          <a:blip r:embed="rId15"/>
          <a:stretch/>
        </p:blipFill>
        <p:spPr>
          <a:xfrm>
            <a:off x="7667640" y="115920"/>
            <a:ext cx="110340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b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150840"/>
            <a:ext cx="7610400" cy="3895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41194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10400" y="339840"/>
            <a:ext cx="162000" cy="198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d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753320" y="150840"/>
            <a:ext cx="1389240" cy="385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601040" y="142920"/>
            <a:ext cx="812880" cy="204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50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391520" y="685800"/>
            <a:ext cx="1484280" cy="628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SzPct val="3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b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3240" y="41194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g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16160" y="465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el Driven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3376-CC10-43EF-8B6A-7FCBCDCD00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96000" y="5734080"/>
            <a:ext cx="2087640" cy="93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24000" y="5734080"/>
            <a:ext cx="2087640" cy="93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Model Driven Architecture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3645000"/>
            <a:ext cx="68256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780000" y="1413000"/>
            <a:ext cx="2393640" cy="100620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6800" bIns="47880" anchor="ctr">
            <a:no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L2 (MDZI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32360" y="2208240"/>
            <a:ext cx="1189080" cy="212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798720" y="2112840"/>
            <a:ext cx="370080" cy="279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22560" y="3573360"/>
            <a:ext cx="2089080" cy="9208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latform 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odel (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Client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MF UML2 (v1.0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0" y="3573360"/>
            <a:ext cx="2089080" cy="9334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latform 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odel (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Server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MF UML2 (v1.0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21200" y="5062680"/>
            <a:ext cx="2158920" cy="863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930280" y="5941800"/>
            <a:ext cx="469800" cy="574920"/>
            <a:chOff x="5930280" y="5941800"/>
            <a:chExt cx="469800" cy="574920"/>
          </a:xfrm>
        </p:grpSpPr>
        <p:sp>
          <p:nvSpPr>
            <p:cNvPr id="117" name=""/>
            <p:cNvSpPr/>
            <p:nvPr/>
          </p:nvSpPr>
          <p:spPr>
            <a:xfrm flipH="1" rot="10800000">
              <a:off x="5929920" y="5941800"/>
              <a:ext cx="368280" cy="51084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10800000">
              <a:off x="6031440" y="6005520"/>
              <a:ext cx="368280" cy="51120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649200" y="5941800"/>
            <a:ext cx="469800" cy="574920"/>
            <a:chOff x="6649200" y="5941800"/>
            <a:chExt cx="469800" cy="574920"/>
          </a:xfrm>
        </p:grpSpPr>
        <p:sp>
          <p:nvSpPr>
            <p:cNvPr id="120" name=""/>
            <p:cNvSpPr/>
            <p:nvPr/>
          </p:nvSpPr>
          <p:spPr>
            <a:xfrm flipH="1" rot="10800000">
              <a:off x="6648840" y="5941800"/>
              <a:ext cx="368280" cy="51084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10800000">
              <a:off x="6750360" y="6005520"/>
              <a:ext cx="368280" cy="51120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298640" y="5941800"/>
            <a:ext cx="469800" cy="574920"/>
            <a:chOff x="7298640" y="5941800"/>
            <a:chExt cx="469800" cy="574920"/>
          </a:xfrm>
        </p:grpSpPr>
        <p:sp>
          <p:nvSpPr>
            <p:cNvPr id="123" name=""/>
            <p:cNvSpPr/>
            <p:nvPr/>
          </p:nvSpPr>
          <p:spPr>
            <a:xfrm flipH="1" rot="10800000">
              <a:off x="7298280" y="5941800"/>
              <a:ext cx="368280" cy="51084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10800000">
              <a:off x="7399800" y="6005520"/>
              <a:ext cx="368280" cy="51120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56840" y="5949720"/>
            <a:ext cx="469800" cy="574920"/>
            <a:chOff x="2256840" y="5949720"/>
            <a:chExt cx="469800" cy="574920"/>
          </a:xfrm>
        </p:grpSpPr>
        <p:sp>
          <p:nvSpPr>
            <p:cNvPr id="126" name=""/>
            <p:cNvSpPr/>
            <p:nvPr/>
          </p:nvSpPr>
          <p:spPr>
            <a:xfrm flipH="1" rot="10800000">
              <a:off x="2256480" y="5949720"/>
              <a:ext cx="368280" cy="51084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rot="10800000">
              <a:off x="2358000" y="6013440"/>
              <a:ext cx="368280" cy="51120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Q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975760" y="5949720"/>
            <a:ext cx="469800" cy="574920"/>
            <a:chOff x="2975760" y="5949720"/>
            <a:chExt cx="469800" cy="574920"/>
          </a:xfrm>
        </p:grpSpPr>
        <p:sp>
          <p:nvSpPr>
            <p:cNvPr id="129" name=""/>
            <p:cNvSpPr/>
            <p:nvPr/>
          </p:nvSpPr>
          <p:spPr>
            <a:xfrm flipH="1" rot="10800000">
              <a:off x="2975400" y="5949720"/>
              <a:ext cx="368280" cy="51084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10800000">
              <a:off x="3076920" y="6013440"/>
              <a:ext cx="368280" cy="51120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625200" y="5949720"/>
            <a:ext cx="469800" cy="574920"/>
            <a:chOff x="3625200" y="5949720"/>
            <a:chExt cx="469800" cy="574920"/>
          </a:xfrm>
        </p:grpSpPr>
        <p:sp>
          <p:nvSpPr>
            <p:cNvPr id="132" name=""/>
            <p:cNvSpPr/>
            <p:nvPr/>
          </p:nvSpPr>
          <p:spPr>
            <a:xfrm flipH="1" rot="10800000">
              <a:off x="3624840" y="5949720"/>
              <a:ext cx="368280" cy="51084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rot="10800000">
              <a:off x="3726360" y="6013440"/>
              <a:ext cx="368280" cy="511200"/>
            </a:xfrm>
            <a:prstGeom prst="foldedCorner">
              <a:avLst>
                <a:gd name="adj" fmla="val 19166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2133720" y="4149720"/>
            <a:ext cx="369720" cy="27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5838840" y="4149720"/>
            <a:ext cx="369720" cy="279360"/>
          </a:xfrm>
          <a:prstGeom prst="rect">
            <a:avLst/>
          </a:prstGeom>
          <a:ln w="0">
            <a:noFill/>
          </a:ln>
        </p:spPr>
      </p:pic>
      <p:cxnSp>
        <p:nvCxnSpPr>
          <p:cNvPr id="136" name=""/>
          <p:cNvCxnSpPr>
            <a:stCxn id="110" idx="1"/>
            <a:endCxn id="113" idx="0"/>
          </p:cNvCxnSpPr>
          <p:nvPr/>
        </p:nvCxnSpPr>
        <p:spPr>
          <a:xfrm flipV="1" rot="10800000">
            <a:off x="3166200" y="1915200"/>
            <a:ext cx="613440" cy="1657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10" idx="3"/>
            <a:endCxn id="114" idx="0"/>
          </p:cNvCxnSpPr>
          <p:nvPr/>
        </p:nvCxnSpPr>
        <p:spPr>
          <a:xfrm>
            <a:off x="6173640" y="1915920"/>
            <a:ext cx="667440" cy="1657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3" idx="2"/>
            <a:endCxn id="107" idx="0"/>
          </p:cNvCxnSpPr>
          <p:nvPr/>
        </p:nvCxnSpPr>
        <p:spPr>
          <a:xfrm flipH="1" rot="16200000">
            <a:off x="2547000" y="5113080"/>
            <a:ext cx="1240560" cy="2520"/>
          </a:xfrm>
          <a:prstGeom prst="bentConnector3">
            <a:avLst>
              <a:gd name="adj1" fmla="val 4992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2050920" y="2593800"/>
            <a:ext cx="5905800" cy="72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el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246480" y="2738520"/>
            <a:ext cx="461880" cy="461880"/>
          </a:xfrm>
          <a:prstGeom prst="rect">
            <a:avLst/>
          </a:prstGeom>
          <a:ln w="0">
            <a:noFill/>
          </a:ln>
        </p:spPr>
      </p:pic>
      <p:cxnSp>
        <p:nvCxnSpPr>
          <p:cNvPr id="141" name=""/>
          <p:cNvCxnSpPr>
            <a:stCxn id="114" idx="2"/>
            <a:endCxn id="106" idx="0"/>
          </p:cNvCxnSpPr>
          <p:nvPr/>
        </p:nvCxnSpPr>
        <p:spPr>
          <a:xfrm flipV="1" rot="10800000">
            <a:off x="6839640" y="4506480"/>
            <a:ext cx="1080" cy="12279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050920" y="4743360"/>
            <a:ext cx="59058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3635280" y="4888080"/>
            <a:ext cx="461880" cy="461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6103800" y="4932360"/>
            <a:ext cx="1729080" cy="360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0"/>
          <a:srcRect l="0" t="26297" r="0" b="35427"/>
          <a:stretch/>
        </p:blipFill>
        <p:spPr>
          <a:xfrm>
            <a:off x="6443640" y="2755800"/>
            <a:ext cx="1368360" cy="405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1"/>
          <a:stretch/>
        </p:blipFill>
        <p:spPr>
          <a:xfrm>
            <a:off x="3995640" y="6060960"/>
            <a:ext cx="561960" cy="466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365720" y="6213600"/>
            <a:ext cx="647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7645320" y="6054840"/>
            <a:ext cx="561960" cy="466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015400" y="6216480"/>
            <a:ext cx="647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B7E4-0390-45F6-9D1B-08CDCED6A8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7:08:47Z</dcterms:created>
  <dc:creator>DCOM2</dc:creator>
  <dc:description/>
  <dc:language>en-US</dc:language>
  <cp:lastModifiedBy>blavenier</cp:lastModifiedBy>
  <dcterms:modified xsi:type="dcterms:W3CDTF">2009-04-07T16:34:46Z</dcterms:modified>
  <cp:revision>133</cp:revision>
  <dc:subject/>
  <dc:title>Aucun titre de diapositive</dc:title>
</cp:coreProperties>
</file>